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1DBD-F72C-4236-8832-8F0C7AB6C0C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FF2B-0E3C-46BB-BF37-CBC2DF8368E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BA3E-7871-474E-9308-E87C11D4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3AFF-B935-4527-8D4C-7E5E7D38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863E-01D5-4285-9A88-8565734C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810F-B536-49F7-A661-6C497C88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70A5-9D99-4955-B5CF-AB4EC405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0A2D-C134-4C09-A744-E0BD76BB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4570-A5F3-48FC-A7DE-1B905C44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1F0D-3041-4B5B-BF8A-7B3E8F6B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9C05-9811-4F88-AA90-4414609C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CB5C-5492-4681-8C1F-12E5FB91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DCA3-6934-4CF7-8D38-0CDB28BE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AF8D-7962-4FDB-B8BF-8CF35C52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22C6-42F6-4DF8-B8CA-206CA4B5942B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35788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 u="sng">
                <a:solidFill>
                  <a:srgbClr val="000000"/>
                </a:solidFill>
                <a:uFillTx/>
                <a:latin typeface="Calibri"/>
              </a:rPr>
              <a:t>Lötverbindung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Users\christian\Desktop\Erklär mal Löten.png"/>
          <p:cNvPicPr/>
          <p:nvPr/>
        </p:nvPicPr>
        <p:blipFill>
          <a:blip r:embed="rId1"/>
          <a:stretch/>
        </p:blipFill>
        <p:spPr>
          <a:xfrm>
            <a:off x="1714680" y="428760"/>
            <a:ext cx="5359320" cy="5060880"/>
          </a:xfrm>
          <a:prstGeom prst="rect">
            <a:avLst/>
          </a:prstGeom>
          <a:ln w="0">
            <a:noFill/>
          </a:ln>
        </p:spPr>
      </p:pic>
      <p:sp>
        <p:nvSpPr>
          <p:cNvPr id="51" name="Datumsplatzhalt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ußzeilenplatzhalt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C:\Users\christian\Desktop\4FormelKomplett.JPG"/>
          <p:cNvPicPr/>
          <p:nvPr/>
        </p:nvPicPr>
        <p:blipFill>
          <a:blip r:embed="rId1"/>
          <a:stretch/>
        </p:blipFill>
        <p:spPr>
          <a:xfrm>
            <a:off x="5580000" y="3857760"/>
            <a:ext cx="4294080" cy="300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christian\Desktop\2FormelKomplett.JPG"/>
          <p:cNvPicPr/>
          <p:nvPr/>
        </p:nvPicPr>
        <p:blipFill>
          <a:blip r:embed="rId2"/>
          <a:stretch/>
        </p:blipFill>
        <p:spPr>
          <a:xfrm>
            <a:off x="5580000" y="1484280"/>
            <a:ext cx="4038840" cy="23115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Formeln zur Berechnung von Lötverbind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2560" y="1928880"/>
            <a:ext cx="7643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cherspannung        :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τ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= K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* F  /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orsionsmoment      :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τ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= 2 * K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* 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nen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/ (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* d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* 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ü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Datumsplatzhalter 7"/>
          <p:cNvSpPr/>
          <p:nvPr/>
        </p:nvSpPr>
        <p:spPr>
          <a:xfrm>
            <a:off x="457200" y="6356520"/>
            <a:ext cx="2900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Bilder: BS-WIKI Lötverbindu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ußzeilenplatzhalt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Calibri"/>
              </a:rPr>
              <a:t>Faustwerter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28800" y="1500120"/>
            <a:ext cx="77580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Lötverbindungen zwischen zwei Baustählen, die vorwiegend ruhenden Belastung ausgesetzt sind, können mit den folgenden „Faustwerten“ berechnet  werde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artlötverbindu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lzul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= σ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lB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/ S ≈200N/mm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τ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lzul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= τ 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lB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/ S ≈100N/mm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Weichlötverbindu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τ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lzul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= τ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lB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/ S = 2N/mm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Datumsplatzhalter 4"/>
          <p:cNvSpPr/>
          <p:nvPr/>
        </p:nvSpPr>
        <p:spPr>
          <a:xfrm>
            <a:off x="457200" y="6356520"/>
            <a:ext cx="2328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Nach  R/M TB 5-9 (Hinwei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ußzeilenplatzhalt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Textplatzhalter 2"/>
          <p:cNvGraphicFramePr/>
          <p:nvPr/>
        </p:nvGraphicFramePr>
        <p:xfrm>
          <a:off x="755640" y="2781360"/>
          <a:ext cx="6121440" cy="32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Textplatzhalt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781360"/>
                    <a:ext cx="612144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0000"/>
                </a:solidFill>
                <a:uFillTx/>
                <a:latin typeface="Calibri"/>
              </a:rPr>
              <a:t>Viel Spaß Herr Jennert</a:t>
            </a:r>
            <a:br>
              <a:rPr sz="4000"/>
            </a:br>
            <a:r>
              <a:rPr b="0" lang="de-DE" sz="4000" spc="-1" strike="noStrike" u="sng">
                <a:solidFill>
                  <a:srgbClr val="000000"/>
                </a:solidFill>
                <a:uFillTx/>
                <a:latin typeface="Calibri"/>
              </a:rPr>
              <a:t>Viel Spaß Herr Ber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796000" y="3068640"/>
            <a:ext cx="33480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1/ISO 18279-C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1044-Ag30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116000" y="1600200"/>
            <a:ext cx="35323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Ar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eichlöten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Kennzahl 94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        WL   (unter 450°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Hartlöten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Kennzahl 91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        HL    (über   450°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Hochtemperaturlöten       HTL  (über   900°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umsplatzhalt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ußzeilenplatzhalt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Anwendungsgebie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99680" y="1928520"/>
            <a:ext cx="828684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L: Dosen, Kühler, elektrische Kontak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HL: Fahrzeugrahmen, Rohrflansc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HTL: Fügen von Stahl, Nickel- und Cobaltlegierungen im Gasturbinenbau und in der Vakuumtechnik (alles flussmittelfrei im Vakuum oder unter Schutzgasatmosphär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Datumsplatzhalt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ußzeilenplatzhalt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Vorgänge beim Lö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6237000"/>
            <a:ext cx="316872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Bild: BS-WIKI Lötverbindu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484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Löten ist ein stoffschlüssiges Fügeverfah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Datumsplatzhalt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ußzeilenplatzhalt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050920" y="2349360"/>
          <a:ext cx="5608800" cy="35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349360"/>
                    <a:ext cx="5608800" cy="35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Calibri"/>
              </a:rPr>
              <a:t>Gestalten einer Lötverbindu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christian\Desktop\Matek 1.jpg"/>
          <p:cNvPicPr/>
          <p:nvPr/>
        </p:nvPicPr>
        <p:blipFill>
          <a:blip r:embed="rId1"/>
          <a:stretch/>
        </p:blipFill>
        <p:spPr>
          <a:xfrm>
            <a:off x="420840" y="2327400"/>
            <a:ext cx="8294400" cy="3911400"/>
          </a:xfrm>
          <a:prstGeom prst="rect">
            <a:avLst/>
          </a:prstGeom>
          <a:ln w="0">
            <a:noFill/>
          </a:ln>
        </p:spPr>
      </p:pic>
      <p:sp>
        <p:nvSpPr>
          <p:cNvPr id="72" name="Datumsplatzhalt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Bild R/M 5-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ußzeilenplatzhalt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Users\christian\Desktop\Matek 3.jpg"/>
          <p:cNvPicPr/>
          <p:nvPr/>
        </p:nvPicPr>
        <p:blipFill>
          <a:blip r:embed="rId1"/>
          <a:stretch/>
        </p:blipFill>
        <p:spPr>
          <a:xfrm>
            <a:off x="4572000" y="1071720"/>
            <a:ext cx="4572000" cy="49035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christian\Desktop\Matek 2.jpg"/>
          <p:cNvPicPr/>
          <p:nvPr/>
        </p:nvPicPr>
        <p:blipFill>
          <a:blip r:embed="rId2"/>
          <a:stretch/>
        </p:blipFill>
        <p:spPr>
          <a:xfrm>
            <a:off x="0" y="1714680"/>
            <a:ext cx="4587840" cy="3571560"/>
          </a:xfrm>
          <a:prstGeom prst="rect">
            <a:avLst/>
          </a:prstGeom>
          <a:ln w="0">
            <a:noFill/>
          </a:ln>
        </p:spPr>
      </p:pic>
      <p:sp>
        <p:nvSpPr>
          <p:cNvPr id="81" name="Datumsplatzhalter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Bilder R/M 5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ußzeilenplatzhalt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Symbolische Darstell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4652640"/>
            <a:ext cx="44956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d: R/M 5-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Textplatzhalter 2"/>
          <p:cNvGraphicFramePr/>
          <p:nvPr/>
        </p:nvGraphicFramePr>
        <p:xfrm>
          <a:off x="71280" y="2637000"/>
          <a:ext cx="9072720" cy="129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extplatzhalt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2637000"/>
                    <a:ext cx="9072720" cy="12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Calibri"/>
              </a:rPr>
              <a:t>Bei der Konstruktion einer Lötverbindung ist zu beach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42600" y="2143080"/>
            <a:ext cx="82868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, dass ausreichend große Lötflächen (z.B. durch Überlappungen) vorgesehen werden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, dass im Lötstoßbereich keine Biegebeanspruchungen, Spannungskonzentrationen oder geometrische Kerbwirkungseffekte auftreten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, dass Lötnähte möglichst auf Schub beansprucht werden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, dass die Oberflächen der Lötstellen einen Mittenrauhwert von Ra ≤ 12,5μm aufweisen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, dass bei geschlossenen Hohlräumen ein Druckausgleich vorhanden is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, dass der Grundwerkstoff , Lot und Flussmittel miteinander „harmoniert“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Datumsplatzhalt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ußzeilenplatzhalt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C:\Users\christian\Desktop\1FormelKomplett.JPG"/>
          <p:cNvPicPr/>
          <p:nvPr/>
        </p:nvPicPr>
        <p:blipFill>
          <a:blip r:embed="rId1"/>
          <a:stretch/>
        </p:blipFill>
        <p:spPr>
          <a:xfrm>
            <a:off x="4572000" y="3645000"/>
            <a:ext cx="4781520" cy="2643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85480" y="1999800"/>
            <a:ext cx="83725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Überlappungslänge  Überlappstoß     : 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ü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≈ R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m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τ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* 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eckverbindung : 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ü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≈ R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m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τ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* d/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ormalspannung     :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= K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*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nen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/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Formeln zur Berechnung von Lötverbind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Datumsplatzhalter 6"/>
          <p:cNvSpPr/>
          <p:nvPr/>
        </p:nvSpPr>
        <p:spPr>
          <a:xfrm>
            <a:off x="457200" y="6356520"/>
            <a:ext cx="2757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Bild: BS-WIKI Lötverbindu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ußzeilenplatzhalt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7:24:41Z</dcterms:created>
  <dc:creator>christian</dc:creator>
  <dc:description/>
  <dc:language>en-US</dc:language>
  <cp:lastModifiedBy>Jessica  Grote</cp:lastModifiedBy>
  <dcterms:modified xsi:type="dcterms:W3CDTF">2003-06-18T03:01:28Z</dcterms:modified>
  <cp:revision>58</cp:revision>
  <dc:subject/>
  <dc:title>Löten</dc:title>
</cp:coreProperties>
</file>